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5608-1512-4BA6-BB9B-00673ED2A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65C3-9606-41CF-AA82-C5622A1F0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CBC0-0435-4EAC-9BC7-7FEA2D9E0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7001-B4B6-4E75-8CFF-9674B88CD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C113-DF26-4F46-A791-FA06607F0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2A53-E24D-4455-9F27-870F5B884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92DC-3283-4A3D-8A3C-2640522AF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A9D6-D9E2-40B0-9243-174D512DD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865B-821C-4AF0-8FB4-69EFC56C3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A3A5-59C5-4682-BAE8-3B9366D95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1EBB-8480-41A1-B182-5BB34511C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6C09-65B2-42AE-968F-CD9BF4078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A14F-36FC-487B-A44B-E89C81D4C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E7C4-FF09-411B-818E-9342370B1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8910-0704-462A-90E1-970830A30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8C2A-E9AF-44C6-BA06-E470F559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9211-B798-423B-B911-D92E4816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524-7591-44E5-ADA0-B390CA72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188C-7E1F-4D46-90CD-261CE944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EBA-EFC5-4635-9B98-D978D1B5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A19-B0A7-46C5-8C9E-C077AC0B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005D-8557-4095-A285-D0BD6AD5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D0F-D237-47CA-9109-1EB4FDAD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986-9802-4111-9CE7-75CBC2C6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DE4-4F4D-4628-8BED-CD9238C0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348B-B4BB-4EE1-A064-D05377AC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DF4D-363F-49AA-BA5C-2CC9C096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827C-EB04-4E6E-A4A5-C9BAAEC34F7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17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SLO_OVlaanderen_Q"/>
          <p:cNvPicPr/>
          <p:nvPr/>
        </p:nvPicPr>
        <p:blipFill>
          <a:blip r:embed="rId1"/>
          <a:stretch/>
        </p:blipFill>
        <p:spPr>
          <a:xfrm>
            <a:off x="0" y="1844640"/>
            <a:ext cx="2440080" cy="3168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2771640" y="1916280"/>
            <a:ext cx="63723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Ouderbetrokkenheid op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Schooljaar 2012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Broederschool -Sint-Niklaa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8 november 2012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.4. – De overtuigingsdimen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5548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42920" y="1413000"/>
          <a:ext cx="6769080" cy="4776840"/>
        </p:xfrm>
        <a:graphic>
          <a:graphicData uri="http://schemas.openxmlformats.org/drawingml/2006/table">
            <a:tbl>
              <a:tblPr/>
              <a:tblGrid>
                <a:gridCol w="3384720"/>
                <a:gridCol w="3384360"/>
              </a:tblGrid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erk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35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s de ouder overtuigd dat hij een rol kan spelen in de schoolloopbaan van zijn kin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 denkt de ouder over zijn eigen r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Denkt de ouder dat hij invloed kan uitoefenen op het welslagen en welbevinden van zijn kind op scho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s de school/leerkracht overtuigd dat ze en rol te spelen heeft in het vormgeven van een krachtige samenwerking tussen ouder en scho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 ziet de leerkracht zijn/haar rol in dit verhaa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s de school overtuigd dat ze een impact heeft op de relatie met de oude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indt de school dat het initiatief hiervoor van ouders zelf moet kom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.1. – De competentiedimen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172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42920" y="1413000"/>
          <a:ext cx="6769080" cy="4776840"/>
        </p:xfrm>
        <a:graphic>
          <a:graphicData uri="http://schemas.openxmlformats.org/drawingml/2006/table">
            <a:tbl>
              <a:tblPr/>
              <a:tblGrid>
                <a:gridCol w="3384720"/>
                <a:gridCol w="3384360"/>
              </a:tblGrid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erk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35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lt/is de ouder (zich) competent om een rol op te nemen in de schoolloopbaan van zijn kin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lt de ouder zich competent om een gesprek aan te gaan met de leerkrac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lt men zich in staat om de agenda en het huiswerk van zijn kind op te volg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lt de leerkracht zich competent om te werken aan een krachtige samenwerking met ouders?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lt de leerkracht zich competent om ouders te betrekken bij het schoolgebeur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lt de leerkracht zich competent om met alle ouders te communicer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.1. – De gedragsdimen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55480" y="1041120"/>
            <a:ext cx="7772400" cy="58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42920" y="1125360"/>
          <a:ext cx="6769080" cy="5878800"/>
        </p:xfrm>
        <a:graphic>
          <a:graphicData uri="http://schemas.openxmlformats.org/drawingml/2006/table">
            <a:tbl>
              <a:tblPr/>
              <a:tblGrid>
                <a:gridCol w="3384720"/>
                <a:gridCol w="3384360"/>
              </a:tblGrid>
              <a:tr h="48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erk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5397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 zet de ouder zijn betrokkenheid om in concreet waarneembaar gedrag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Ondersteunt de ouder het kind bij het maken van schooltak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Spreekt de ouder met zijn kind over wat er op school gebeur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eemt de ouder deel aan oudercontacten, openklasmomenten, …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erleent de ouder hulp bij het organiseren van school- en klasactiviteit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aakt de ouder deel uit van het oudercomité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353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Wat doet de school/leerkracht concreet om ouders te betrekken bij de schoolloopbaan van hun kin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rt de school een communicatiebeleid dat haalbaar is voor alle oude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Wordt tijd en ruimte gecreëerd voor informele contacten met ouders (schoolpoort, …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Organiseert de school oudercontacten, openklasmomenten en andere ouderbijeenkomsten die zijn afgestemd op de diverse groep ouders op scho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353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.1. – De tijdsdimen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5548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87280" y="1413000"/>
          <a:ext cx="6624720" cy="4776840"/>
        </p:xfrm>
        <a:graphic>
          <a:graphicData uri="http://schemas.openxmlformats.org/drawingml/2006/table">
            <a:tbl>
              <a:tblPr/>
              <a:tblGrid>
                <a:gridCol w="3240360"/>
                <a:gridCol w="3384360"/>
              </a:tblGrid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erk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35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veel tijd besteedt de ouder aan bepaalde zak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Deze dimensie wordt samen met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       </a:t>
                      </a: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de gedragsdimensie bekek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veel tijd besteedt de ouder aan zijn contacten met scho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veel tijd besteedt de ouder aan het ondersteunen van het kind thui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353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veel tijd besteedt de school/leerkrahct aan het werken aan een goede samenwerking met oude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Deze dimensie wordt samen met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       </a:t>
                      </a: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de gedragsdimensie bekek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veel tijd besteedt de school/leerkracht aan zijn contacten met oude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353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684360" y="333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 – De dimensies toegepast op het oudercontact – een voorbeeld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84360" y="1989000"/>
            <a:ext cx="767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360" y="1789200"/>
            <a:ext cx="7772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nnisdimensie: Weet de ouder hoe zijn kind het doet op scho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en hoe het kind zich voelt? Weet de ouder wat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 bedoeling is van het oudercontac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otionele dimensie: Voelt de ouder zich welkom? Voelt hij zi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rij om te sprek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tuigingsdimensie: Is de ouder overtuigd van het belang 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ijn aanwezighei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tionele diemensie: Op basis van bovenstaande zal de ou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en kosten-baten maken. Is het de moe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m een oppas te zoeken, vroeger 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jn werk weg te gaan, …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684360" y="333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 – De dimensies toegepast op het oudercontact – een voorbeeld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84360" y="1989000"/>
            <a:ext cx="767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etentiedimensie: Voelt de ouder zich competent om h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sprek aan te gaan met de leerkra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 welbevinden, leerresultaten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erkansen? (Gebruikt de leerka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egankelijke taal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drags- en tijdsdimensie: Hoe meer de school inspeelt op a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mensies (in een geheel 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viteiten), hoe vaker ou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erdaad naar het ouderconta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ullen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4360" y="2420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flapp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t valt je op als je de documenten bekijk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ositief en negatie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e zou je verder aan de slag kunnen met de positieve zak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b je ideeën om met de “negatieve” vaststellingen aan de slag te gaa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84360" y="333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32929"/>
                </a:solidFill>
                <a:latin typeface="Arial"/>
              </a:rPr>
              <a:t>4. - Wat leren we van de toepassing op jouw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911734"/>
                </a:solidFill>
                <a:latin typeface="Arial"/>
              </a:rPr>
              <a:t>Reacti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1734"/>
              </a:solidFill>
              <a:latin typeface="Arial"/>
            </a:endParaRPr>
          </a:p>
        </p:txBody>
      </p:sp>
      <p:pic>
        <p:nvPicPr>
          <p:cNvPr id="117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932929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0755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3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932929"/>
                </a:solidFill>
                <a:latin typeface="Arial"/>
              </a:rPr>
              <a:t>Wanneer vind jij een ouder betrokk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932929"/>
                </a:solidFill>
                <a:latin typeface="Arial"/>
              </a:rPr>
              <a:t>2.  Definitie ouderbetrokken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932929"/>
                </a:solidFill>
                <a:latin typeface="Arial"/>
              </a:rPr>
              <a:t>3.  De 7 dimensies van ouderbetrokken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2929"/>
                </a:solidFill>
                <a:latin typeface="Arial"/>
              </a:rPr>
              <a:t>4.  Wat leren we van de toepassing er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2929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932929"/>
                </a:solidFill>
                <a:latin typeface="Arial"/>
              </a:rPr>
              <a:t>op de activiteiten op jouw schoo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84360" y="333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1 – Wanneer vind jij een ouder betrokk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826920" y="1557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  <a:ea typeface="Arial"/>
              </a:rPr>
              <a:t>Maak je persoonlijke top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  <a:ea typeface="Arial"/>
              </a:rPr>
              <a:t>We komen samen op flap tot een gemeenschappelijke top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2 – Definitie ouderbetrokken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26920" y="1557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uderbetrokkenheid omvat 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de relatie tussen het onderwijs van het kind en de ouders in de breedste zin van het woord. Dit kan zich uiten in daden binnen het gezin of in schoolverba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-    </a:t>
            </a:r>
            <a:r>
              <a:rPr b="0" lang="nl-B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specten van ouderbetrokkenhei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Contact en communicatie: wederzijdse communicatie 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tussen school en ouders kan mondeling of schriftelijk plaatsvin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Ouderparticipatie: informele dienstverlening door ouders aan school (hulp bij activiteiten, …) en formele ouderparticipatie (ouderraad, oudercomité, …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Onderwijsondersteunend gedrag: de voorwaardenscheppende rol van ouders ten gunste van het leerproces en gedrag van het kind op school (voldoende rust, voeding,…) en ondersteuning van leeractiviteiten thuis (huiswerk, …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684360" y="333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 – De 7 dimensies van ouderbetrokken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4 ontwikkeld door de vakgroep sociale agogiek van de universiteit van 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mee kan je oudermomenten op school bekijken, evalueren en bijstu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dimensionele bril zorgt voor betere oplossing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684360" y="333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 – De 7 dimensies van ouderbetrokkenheid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Kennisdimen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motionele dimen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ationele dimen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Overtuigingsdimen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ompetentiedimen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edragsdimen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ijdsdimen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.1. – De kennisdimen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5548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42920" y="1268280"/>
          <a:ext cx="6769080" cy="5013360"/>
        </p:xfrm>
        <a:graphic>
          <a:graphicData uri="http://schemas.openxmlformats.org/drawingml/2006/table">
            <a:tbl>
              <a:tblPr/>
              <a:tblGrid>
                <a:gridCol w="3384720"/>
                <a:gridCol w="338436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erk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59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t weet de ouder over onderwij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t weet de ouder over de school van zijn kind(eren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t weet de ouder over de klas van de kinder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t leert mijn kin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e kan ik als ouder meer informatie vergar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ar kan ik terecht bij problem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t weet de school/leerkracht over de ouders van hun leerlingen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en je als school kanalen om meer te weten te komen over de oude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…</a:t>
                      </a: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.2. – De emotionele dimensi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5548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42920" y="1413000"/>
          <a:ext cx="6769080" cy="4776840"/>
        </p:xfrm>
        <a:graphic>
          <a:graphicData uri="http://schemas.openxmlformats.org/drawingml/2006/table">
            <a:tbl>
              <a:tblPr/>
              <a:tblGrid>
                <a:gridCol w="3384720"/>
                <a:gridCol w="3384360"/>
              </a:tblGrid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erk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0000"/>
                    </a:solidFill>
                  </a:tcPr>
                </a:tc>
              </a:tr>
              <a:tr h="435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e voelt de ouder  zich ten opzichte van onderwij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eeft de ouder het gevoel dat de school open staat voor hem/haar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Voelt de ouder zich welkom op scho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eeft de ouder het gevoel dat men vriendelijk i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eeft de ouder het gevoel dat hij aanvaard wordt op scho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Welke gevoelens heeft de leerkracht tegenover de oude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eeft de leerkracht het gevoel  dat ouders openstaan voor wat ze over het kind willen vertell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eeft de school/de leerkracht het gevoel dat de ouders hen waarder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292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SLO_OVlaanderen_Q"/>
          <p:cNvPicPr/>
          <p:nvPr/>
        </p:nvPicPr>
        <p:blipFill>
          <a:blip r:embed="rId1"/>
          <a:stretch/>
        </p:blipFill>
        <p:spPr>
          <a:xfrm>
            <a:off x="8380440" y="5867280"/>
            <a:ext cx="763560" cy="990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68436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32929"/>
                </a:solidFill>
                <a:latin typeface="Arial"/>
              </a:rPr>
              <a:t>3.3. – De rationele dimen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187280" y="227664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5548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42920" y="1413000"/>
          <a:ext cx="6769080" cy="5327640"/>
        </p:xfrm>
        <a:graphic>
          <a:graphicData uri="http://schemas.openxmlformats.org/drawingml/2006/table">
            <a:tbl>
              <a:tblPr/>
              <a:tblGrid>
                <a:gridCol w="3384720"/>
                <a:gridCol w="3384360"/>
              </a:tblGrid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erk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90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Kosten-ba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ien ouders het belang in van onderwij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ien ouders het belang in van zelf te investeren in de schoolloopbaan van hun kin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ijn ouders bereid om kosten te maken (zoals tijd, kinderopvang zoeken, verlof nemen, een busticket kopen, …) om hierin te invester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ien ouders het belang in van contacten te hebben met de schoo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353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Kosten-ba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iet de leerkracht het belang in van een goede samenwerking met oude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s de school/leerkracht bereid om daarvoor kosten te maken, zoals extra tijd op school blijven, nascholing volgen, huisbezoeken doen,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353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2:47:46Z</dcterms:created>
  <dc:creator>hewo</dc:creator>
  <dc:description/>
  <dc:language>en-US</dc:language>
  <cp:lastModifiedBy>Lies</cp:lastModifiedBy>
  <dcterms:modified xsi:type="dcterms:W3CDTF">2012-11-07T20:54:26Z</dcterms:modified>
  <cp:revision>183</cp:revision>
  <dc:subject/>
  <dc:title>PowerPoint-presentatie</dc:title>
</cp:coreProperties>
</file>