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487E-4E8D-4CFE-901C-DD0F00FEF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8062-09D2-4E3E-A964-4822CA49F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44AC-36C3-45B5-B89B-419052E9C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924C-04D5-4B38-951B-7DE2F692A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28E4D-0986-45EB-A14B-695771758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14B54-9438-4A0C-9AB9-483342D77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973D6-4BFA-427C-936B-79D471AE4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98CBB-ADD0-4878-8498-0C00CE031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5DFE7-77E2-4342-9B39-1E7D01468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6ECC7-7FBE-4F0C-A09F-08D742167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5738B-EA41-4A59-A059-BC523A4A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A591-CDA1-43B9-991C-DFBEF6A3C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5D945-965B-47AF-81A7-E1D1C483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3FA79-0F56-491B-B8C6-F555CAD8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F403F-5895-46F7-A17A-25D2E75B9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EFB16-2CB6-4004-84E4-2CA6CC86B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5F777-F9A1-4002-BB07-F6170AF65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7C9DF-186E-48CE-8725-14A8603BE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510A6-57DC-44CD-8699-358811B73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0FDF8-BE6B-4993-8445-7F2E651D2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199EE-D661-4DF9-AD60-5C138667A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AFFA9-EAD5-4E9C-827D-B471743FD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1050-06FE-47BD-9C80-9D8F502D2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00189-917B-442C-BAB5-AF6413235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D9E24-8C53-4C23-91F3-639488C9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8D54E-3ED2-474B-A6AB-E1CED3FB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F666D-CB21-4764-A55C-3BC22264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C5562-C936-40ED-9219-AA9255E79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5FD6F-A21B-4390-B856-E2988DE9B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5DAAB-07C9-4293-8B1B-BBB375AA5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66BA8-0560-45A6-8B58-1533FF961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623D4-49C0-4A88-943F-AA1EF514D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48008-9542-4A2D-B895-FCA0B95A8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DE9D-4ECA-4220-8741-1AB557061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AFC44-AC15-4D03-9655-26707B12A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64CE6-E87D-41CA-BC43-DAACC124D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4696D-6147-4588-A7F9-F81ADDEC1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0AB43-CCCF-4CA6-9AE7-6455ECF2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FB012-2CC1-41FC-B052-67F77CE1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6BBB0-18E8-4C9D-A8B4-9B73A852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9BEF8-461E-497B-B44B-33E83BBA1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DB54C-B1B2-402F-96EB-1FCA96074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F4FD0-E289-4FC5-A8BD-E4050E95F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F65F8-41C3-455A-849A-C13891125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BB8C-A44A-4F7B-B54A-D6BC0E048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A151C-4C8C-4C64-B64C-05609076E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865A7-AEC2-4513-AD85-75B97A887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F58CC-73C6-4BD1-A260-2C477A7A7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B3973-ADE6-41D8-BFDD-1A8B86734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341C0-925C-45B4-898F-27AA380A1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FEB85-6F86-4E15-90AA-0795BC73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83126-40E2-4B67-9EFC-7506D5D1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C4D97-BC9F-4A4D-9B24-CCFAC163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10235-59FA-4224-866E-B5E4A1246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54A54-9E53-4F41-AC39-BEFB620FC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1B62-C039-47FA-8F1A-90F2B7D9C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AB1C3-DE9F-4767-9D0F-EA9A5A2CE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B26F6-7237-470E-B644-57B310877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D8E98-3144-4C63-876D-7CC0FAD3F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6089B8-085F-4E95-9EE9-F80166BA9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A7E25-8FA4-4FC7-8970-44E2F04B4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535DA-282F-4F69-902D-B4D99D739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A0454-27EA-4778-B268-4552C65CA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77B40-52AD-49C7-931D-F795787A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C5992B-B684-4D1B-A20A-B08423A5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EF206-21B5-48F4-81B7-BDDA306F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F1E1-46C2-4E85-8B3B-4AF96CF4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C970F-D3BA-49FE-9F1A-2FF500242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C38439-EA35-4917-886D-30E901A7C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DC535-C352-48E2-8999-B213E2104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C5C9E-12AA-4352-9B95-98DBCB575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084BFD-9A67-4F8F-9F22-F7F66649E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D65D52-0C68-480E-9068-E225828B3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90A74-E91C-4A84-AFCD-6BA2200A5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6C359-6121-45A2-A80B-2EFE714A5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F64B4-08D0-48D7-9F81-9D0518174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BC26EB-70E2-40B4-A6C6-F8AAE602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FFCE-8A3E-4A2B-8211-A676CEA2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8867A-5019-4CB5-B086-C34724D4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0B708-2EE5-438D-9CD7-654C520D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31A49E-C3A2-4186-9317-F4FF5535F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84EB31-E4FF-497B-88C3-A7C813381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9166D5-45CE-40D6-AC2C-7D30552B0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7C491E-9F9C-4C4D-AD50-68A842612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C2E55D-9358-4E04-B47D-5EF2D5C54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1ED45-5317-4FDF-B952-B87E71D2E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76CC65-E344-4713-9495-7881A775A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1E89FB-D754-4399-AC99-6968D8CA7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E2F3-7F82-41D8-8A99-AB7F0BE5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578864-13BC-47D3-AC25-E35AB8DB6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D8E247-BA87-4E46-BE74-4204D80A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F08C27-D55A-4E64-ABCD-CB6AC0B4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109A0A-1811-4314-82C9-98D74153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BA6ED4-B47A-458B-B896-E186719E2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94AC0-25E3-48FA-A2C2-E206F57A6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22243F-3865-49A2-9779-52D72BB31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Verdana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8B7C5-59EA-4100-A7FE-BE00B81E8BB9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cd004e"/>
              </a:gs>
              <a:gs pos="50000">
                <a:srgbClr val="ff4192"/>
              </a:gs>
              <a:gs pos="100000">
                <a:srgbClr val="cd004e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ff9eb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Verdana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04022-5975-491A-8F5B-B1AF91E170A3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e0166b"/>
              </a:gs>
              <a:gs pos="100000">
                <a:srgbClr val="ff7aa9"/>
              </a:gs>
            </a:gsLst>
            <a:lin ang="16200000"/>
          </a:gradFill>
          <a:ln cap="rnd" w="3240">
            <a:solidFill>
              <a:srgbClr val="bc266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e0166b"/>
              </a:gs>
              <a:gs pos="100000">
                <a:srgbClr val="ff7aa9"/>
              </a:gs>
            </a:gsLst>
            <a:lin ang="16200000"/>
          </a:gradFill>
          <a:ln cap="rnd" w="3240">
            <a:solidFill>
              <a:srgbClr val="bc266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2d2d2"/>
                </a:solidFill>
                <a:latin typeface="Verdana"/>
              </a:rPr>
              <a:t>Click to edit the title text format</a:t>
            </a:r>
            <a:endParaRPr b="1" lang="en-US" sz="4100" spc="-1" strike="noStrike">
              <a:solidFill>
                <a:srgbClr val="d2d2d2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Verdana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Verdana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Verdana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Verdana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Verdana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Verdana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9ED21-49AA-4149-BF5B-7ADB742A4E0C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2d2d2"/>
                </a:solidFill>
                <a:latin typeface="Verdana"/>
              </a:rPr>
              <a:t>Click to edit the title text format</a:t>
            </a:r>
            <a:endParaRPr b="1" lang="en-US" sz="4100" spc="-1" strike="noStrike">
              <a:solidFill>
                <a:srgbClr val="d2d2d2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Verdana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Verdana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Verdana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Verdana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Verdana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Verdana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F5AF-C6C2-48C9-9059-1A3A7EE11594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Verdana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1B913-C2D8-4E29-A92F-F28D1FA6AB10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2d2d2"/>
                </a:solidFill>
                <a:latin typeface="Verdana"/>
              </a:rPr>
              <a:t>Click to edit the title text format</a:t>
            </a:r>
            <a:endParaRPr b="1" lang="en-US" sz="4100" spc="-1" strike="noStrike">
              <a:solidFill>
                <a:srgbClr val="d2d2d2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Verdana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Verdana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Verdana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Verdana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Verdana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Verdana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01820-5A6F-4FB8-9E51-EDDC6F329DCB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Verdana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91D13-2E12-4C23-9326-0A0B8267B930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e0166b"/>
              </a:gs>
              <a:gs pos="100000">
                <a:srgbClr val="ff7aa9"/>
              </a:gs>
            </a:gsLst>
            <a:lin ang="16200000"/>
          </a:gradFill>
          <a:ln cap="rnd" w="3240">
            <a:solidFill>
              <a:srgbClr val="bc266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e0166b"/>
              </a:gs>
              <a:gs pos="100000">
                <a:srgbClr val="ff7aa9"/>
              </a:gs>
            </a:gsLst>
            <a:lin ang="16200000"/>
          </a:gradFill>
          <a:ln cap="rnd" w="3240">
            <a:solidFill>
              <a:srgbClr val="bc266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2d2d2"/>
                </a:solidFill>
                <a:latin typeface="Verdana"/>
              </a:rPr>
              <a:t>Click to edit the title text format</a:t>
            </a:r>
            <a:endParaRPr b="1" lang="en-US" sz="4100" spc="-1" strike="noStrike">
              <a:solidFill>
                <a:srgbClr val="d2d2d2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Verdana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Verdana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Verdana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Verdana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Verdana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Verdana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2CCB3-4A7C-4354-B808-9BB5C3F639F0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bibliotheekzundertrucphen.nl/sites/bib-rucphen/files/voorlezen.jpg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712800" y="2359080"/>
            <a:ext cx="8016840" cy="158436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2700" spc="-1" strike="noStrike">
              <a:solidFill>
                <a:srgbClr val="666666"/>
              </a:solidFill>
              <a:latin typeface="Verdana"/>
            </a:endParaRPr>
          </a:p>
        </p:txBody>
      </p:sp>
      <p:pic>
        <p:nvPicPr>
          <p:cNvPr id="372" name="Picture 6" descr="http://www.bibliotheekzundertrucphen.nl/sites/bib-rucphen/files/voorlezen.jpg"/>
          <p:cNvPicPr/>
          <p:nvPr/>
        </p:nvPicPr>
        <p:blipFill>
          <a:blip r:embed="rId2"/>
          <a:stretch/>
        </p:blipFill>
        <p:spPr>
          <a:xfrm>
            <a:off x="3492360" y="765000"/>
            <a:ext cx="21434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 u="sng">
                <a:solidFill>
                  <a:srgbClr val="17bbfd"/>
                </a:solidFill>
                <a:uFillTx/>
                <a:latin typeface="Verdana"/>
                <a:hlinkClick r:id="rId1"/>
              </a:rPr>
              <a:t>http://www.bibliotheekzundertrucphen.nl/sites/bib-rucphen/files/voorlezen.jp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7" name="Titel 2" descr=""/>
          <p:cNvPicPr/>
          <p:nvPr/>
        </p:nvPicPr>
        <p:blipFill>
          <a:blip r:embed="rId2"/>
          <a:stretch/>
        </p:blipFill>
        <p:spPr>
          <a:xfrm>
            <a:off x="268200" y="274680"/>
            <a:ext cx="8418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Titel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5568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700" spc="-1" strike="noStrike">
                <a:solidFill>
                  <a:srgbClr val="000000"/>
                </a:solidFill>
                <a:latin typeface="Verdana"/>
              </a:rPr>
              <a:t>Voorlezen is iets voor rustige kinderen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666666"/>
              </a:solidFill>
              <a:latin typeface="Verdana"/>
            </a:endParaRPr>
          </a:p>
        </p:txBody>
      </p:sp>
      <p:pic>
        <p:nvPicPr>
          <p:cNvPr id="377" name="Picture 5" descr=""/>
          <p:cNvPicPr/>
          <p:nvPr/>
        </p:nvPicPr>
        <p:blipFill>
          <a:blip r:embed="rId1"/>
          <a:stretch/>
        </p:blipFill>
        <p:spPr>
          <a:xfrm>
            <a:off x="3635280" y="4076640"/>
            <a:ext cx="87624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7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Verdana"/>
              </a:rPr>
              <a:t>Jonge kinderen vinden televisie kijken leuker dan voorleze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666666"/>
              </a:solidFill>
              <a:latin typeface="Verdana"/>
            </a:endParaRPr>
          </a:p>
        </p:txBody>
      </p:sp>
      <p:pic>
        <p:nvPicPr>
          <p:cNvPr id="380" name="Picture 5" descr=""/>
          <p:cNvPicPr/>
          <p:nvPr/>
        </p:nvPicPr>
        <p:blipFill>
          <a:blip r:embed="rId1"/>
          <a:stretch/>
        </p:blipFill>
        <p:spPr>
          <a:xfrm>
            <a:off x="3564000" y="4581360"/>
            <a:ext cx="876240" cy="8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leuters kunnen niet goed een boek kiezen in de bibliotheek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666666"/>
              </a:solidFill>
              <a:latin typeface="Verdana"/>
            </a:endParaRPr>
          </a:p>
        </p:txBody>
      </p:sp>
      <p:pic>
        <p:nvPicPr>
          <p:cNvPr id="383" name="Picture 5" descr=""/>
          <p:cNvPicPr/>
          <p:nvPr/>
        </p:nvPicPr>
        <p:blipFill>
          <a:blip r:embed="rId1"/>
          <a:stretch/>
        </p:blipFill>
        <p:spPr>
          <a:xfrm>
            <a:off x="3635280" y="4292640"/>
            <a:ext cx="87624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oorlezen heeft pas zin als kinderen een verhaal kunnen volge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666666"/>
              </a:solidFill>
              <a:latin typeface="Verdana"/>
            </a:endParaRPr>
          </a:p>
        </p:txBody>
      </p:sp>
      <p:pic>
        <p:nvPicPr>
          <p:cNvPr id="386" name="Picture 5" descr=""/>
          <p:cNvPicPr/>
          <p:nvPr/>
        </p:nvPicPr>
        <p:blipFill>
          <a:blip r:embed="rId1"/>
          <a:stretch/>
        </p:blipFill>
        <p:spPr>
          <a:xfrm>
            <a:off x="3635280" y="3933720"/>
            <a:ext cx="87624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ij het voorlezen moet je de tekst letterlijk hardop leze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666666"/>
              </a:solidFill>
              <a:latin typeface="Verdana"/>
            </a:endParaRPr>
          </a:p>
        </p:txBody>
      </p:sp>
      <p:pic>
        <p:nvPicPr>
          <p:cNvPr id="389" name="Picture 5" descr=""/>
          <p:cNvPicPr/>
          <p:nvPr/>
        </p:nvPicPr>
        <p:blipFill>
          <a:blip r:embed="rId1"/>
          <a:stretch/>
        </p:blipFill>
        <p:spPr>
          <a:xfrm>
            <a:off x="3635280" y="4005360"/>
            <a:ext cx="87624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werkt storend als een kind alles wil aanwijzen en mee wil vertellen bij het voorleze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666666"/>
              </a:solidFill>
              <a:latin typeface="Verdana"/>
            </a:endParaRPr>
          </a:p>
        </p:txBody>
      </p:sp>
      <p:pic>
        <p:nvPicPr>
          <p:cNvPr id="392" name="Picture 5" descr=""/>
          <p:cNvPicPr/>
          <p:nvPr/>
        </p:nvPicPr>
        <p:blipFill>
          <a:blip r:embed="rId1"/>
          <a:stretch/>
        </p:blipFill>
        <p:spPr>
          <a:xfrm>
            <a:off x="3780000" y="4221000"/>
            <a:ext cx="876240" cy="8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2876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700" spc="-1" strike="noStrike">
                <a:solidFill>
                  <a:srgbClr val="000000"/>
                </a:solidFill>
                <a:latin typeface="Verdana"/>
              </a:rPr>
              <a:t>Kinderen vinden het niet leuk als één boekje telkens opnieuw wordt voorgelezen?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666666"/>
              </a:solidFill>
              <a:latin typeface="Verdana"/>
            </a:endParaRPr>
          </a:p>
        </p:txBody>
      </p:sp>
      <p:pic>
        <p:nvPicPr>
          <p:cNvPr id="395" name="Picture 5" descr=""/>
          <p:cNvPicPr/>
          <p:nvPr/>
        </p:nvPicPr>
        <p:blipFill>
          <a:blip r:embed="rId1"/>
          <a:stretch/>
        </p:blipFill>
        <p:spPr>
          <a:xfrm>
            <a:off x="3708360" y="4653000"/>
            <a:ext cx="87624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08:49:40Z</dcterms:created>
  <dc:creator>Juf An</dc:creator>
  <dc:description/>
  <dc:language>en-US</dc:language>
  <cp:lastModifiedBy>Linde Stael</cp:lastModifiedBy>
  <dcterms:modified xsi:type="dcterms:W3CDTF">2014-11-24T13:10:09Z</dcterms:modified>
  <cp:revision>7</cp:revision>
  <dc:subject/>
  <dc:title>Voorlezen aan kinderen</dc:title>
</cp:coreProperties>
</file>