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8D9-A723-495C-85FF-778C08B9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4F5-7DDE-4EE2-BD3E-EED0837D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17E-0B3A-495F-9AB2-0AB8085D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B8B6-E657-407A-B47D-A3C491F0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440-5CBC-43C2-9506-A2725A51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5BF-42C8-4FE9-9E7D-CDD3DB5C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F5C-75A1-4E67-8EA1-276A55F2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9EEE-3989-46AE-A2F4-6D2F63CA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B390-4C58-42FC-9658-004787E0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26F-2775-4114-8C68-6C9FF883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043D-4051-4DBD-84E1-2E1F9792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A99-72B5-4027-8036-292F1900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A086-8F74-4695-A7BE-3F328BBC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852-4DEA-4641-91A4-5D7F6D0B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9D34-D5FB-4DA6-B922-8AC288CB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DCD-2CE5-484A-B688-6599CB52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AA4-BE6A-4086-A63B-100B809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DF2-BA85-41BA-8CDB-D049C28E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568-B968-40ED-9622-3B8153E8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714-6CFC-4179-8AEF-4DE52FF3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259-0C01-40AE-88B4-44083E7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EBE-9D03-4631-9C0A-C973635C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3D6-0E4F-4ECA-8E49-9EAC83E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5A8-1102-42A6-8CB0-F00AEDD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58E-F107-4F0D-9B54-AB041AE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77D-C61A-413B-AFDA-83B39A0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5A9-17D7-41E9-9C27-856FDC5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3D46-2536-44C6-A0B1-D6DE6775D9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17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O_OVlaanderen_Q"/>
          <p:cNvPicPr/>
          <p:nvPr/>
        </p:nvPicPr>
        <p:blipFill>
          <a:blip r:embed="rId1"/>
          <a:stretch/>
        </p:blipFill>
        <p:spPr>
          <a:xfrm>
            <a:off x="0" y="1844640"/>
            <a:ext cx="24400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771640" y="1916280"/>
            <a:ext cx="6372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Ouderbetrokkenheid op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Schooljaar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roederschool -Sint-Nikla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8 november 201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4. – De overtuigin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ouder overtuigd dat hij een rol kan spel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denkt de ouder over zijn eigen r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nkt de ouder dat hij invloed kan uitoefenen op het welslagen en welbevinden van zijn kind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overtuigd dat ze en rol te spelen heeft in het vormgeven van een krachtige samenwerking tussen ouder en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iet de leerkracht zijn/haar rol in dit verha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 overtuigd dat ze een impact heeft op de relatie met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indt de school dat het initiatief hiervoor van ouders zelf moet ko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competentie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172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/is de ouder (zich) competent om een rol op te nem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competent om een gesprek aan te gaan met de leerkrac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men zich in staat om de agenda en het huiswerk van zijn kind op te volg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te werken aan een krachtige samenwerking met ouders?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ouders te betrekken bij het schoolgebeu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met alle ouders te communic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gedra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55480" y="1041120"/>
            <a:ext cx="77724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1125360"/>
          <a:ext cx="6769080" cy="587880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8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539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et de ouder zijn betrokkenheid om in concreet waarneembaar gedra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ndersteunt de ouder het kind bij het maken van schoolt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preekt de ouder met zijn kind over wat er op school gebeur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eemt de ouder deel aan oudercontacten, openklasmomenten, …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erleent de ouder hulp bij het organiseren van school- en klasactiviteit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aakt de ouder deel uit van het oudercomit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at doet de school/leerkracht concreet om ouders te betrekken bij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rt de school een communicatiebeleid dat haalbaar is voor all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ordt tijd en ruimte gecreëerd voor informele contacten met ouders (schoolpoort, …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iseert de school oudercontacten, openklasmomenten en andere ouderbijeenkomsten die zijn afgestemd op de diverse groep ouders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tijd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413000"/>
          <a:ext cx="6624720" cy="4776840"/>
        </p:xfrm>
        <a:graphic>
          <a:graphicData uri="http://schemas.openxmlformats.org/drawingml/2006/table">
            <a:tbl>
              <a:tblPr/>
              <a:tblGrid>
                <a:gridCol w="324036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bepaalde z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zijn contacten met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het ondersteunen van het kind thu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hct aan het werken a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cht aan zijn contacten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7892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nnisdimensie: Weet de ouder hoe zijn kind het doet op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en hoe het kind zich voelt? Weet de ouder wa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bedoeling is van het ouderconta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otionele dimensie: Voelt de ouder zich welkom? Voelt hij z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rij om te spre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tuigingsdimensie: Is de ouder overtuigd van het belang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ijn aanwezighe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ionele diemensie: Op basis van bovenstaande zal de ou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kosten-baten maken. Is het de moe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m een oppas te zoeken, vroeger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jn werk weg te gaan,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entiedimensie: Voelt de ouder zich competent om h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sprek aan te gaan met de leerkr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welbevinden, leerresultate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erkansen? (Gebruikt de leerk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egankelijke taal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drags- en tijdsdimensie: Hoe meer de school inspeelt op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mensies (in een geheel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eiten), hoe vaker ou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rdaad naar het oudercont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llen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flap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 valt je op als je de documenten bekijk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sitief en negati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e zou je verder aan de slag kunnen met de positieve za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b je ideeën om met de “negatieve” vaststellingen aan de slag te gaa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32929"/>
                </a:solidFill>
                <a:latin typeface="Arial"/>
              </a:rPr>
              <a:t>4. - Wat leren we van de toepassing op jouw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11734"/>
                </a:solidFill>
                <a:latin typeface="Arial"/>
              </a:rPr>
              <a:t>Reac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1734"/>
              </a:solidFill>
              <a:latin typeface="Arial"/>
            </a:endParaRPr>
          </a:p>
        </p:txBody>
      </p:sp>
      <p:pic>
        <p:nvPicPr>
          <p:cNvPr id="11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32929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075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3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Wanneer vind jij een ouder betrokk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2.  Definitie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3.  De 7 dimensies van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4.  Wat leren we van de toepassing er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op de activiteiten op jouw scho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1 – Wanneer vind jij een ouder betrok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Maak je persoon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We komen samen op flap tot een gemeenschappe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2 – Definitie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derbetrokkenheid omvat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de relatie tussen het onderwijs van het kind en de ouders in de breedste zin van het woord. Dit kan zich uiten in daden binnen het gezin of in schoolverb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en van ouderbetrokkenhe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Contact en communicatie: wederzijdse communicatie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tussen school en ouders kan mondeling of schriftelijk plaatsvi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uderparticipatie: informele dienstverlening door ouders aan school (hulp bij activiteiten, …) en formele ouderparticipatie (ouderraad, oudercomité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nderwijsondersteunend gedrag: de voorwaardenscheppende rol van ouders ten gunste van het leerproces en gedrag van het kind op school (voldoende rust, voeding,…) en ondersteuning van leeractiviteiten thuis (huiswerk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ontwikkeld door de vakgroep sociale agogiek van de universiteit van 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mee kan je oudermomenten op school bekijken, evalueren en bijs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ele bril zorgt voor betere oploss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nni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mo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vertuigin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etentie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dra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jd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kenni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1268280"/>
          <a:ext cx="6769080" cy="501336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5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school van zijn kind(eren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klas van de kin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leert m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e kan ik als ouder meer informatie verga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ar kan ik terecht bij proble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school/leerkracht over de ouders van hun leerlingen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 je als school kanalen om meer te weten te komen 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2. – De emotionele dimens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voelt de ouder  zich ten opzichte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de school open staat voor hem/haa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welkom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men vriendelijk 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hij aanvaard wordt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elke gevoelens heeft de leerkracht tegen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leerkracht het gevoel  dat ouders openstaan voor wat ze over het kind willen vertell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school/de leerkracht het gevoel dat de ouders hen waar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3. – De rationele 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413000"/>
          <a:ext cx="6769080" cy="53276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0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zelf te investeren in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jn ouders bereid om kosten te maken (zoals tijd, kinderopvang zoeken, verlof nemen, een busticket kopen, …) om hierin te invest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contacten te hebben met de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t de leerkracht het belang in v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bereid om daarvoor kosten te maken, zoals extra tijd op school blijven, nascholing volgen, huisbezoeken doen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2:47:46Z</dcterms:created>
  <dc:creator>hewo</dc:creator>
  <dc:description/>
  <dc:language>en-US</dc:language>
  <cp:lastModifiedBy>Lies</cp:lastModifiedBy>
  <dcterms:modified xsi:type="dcterms:W3CDTF">2012-11-07T20:54:26Z</dcterms:modified>
  <cp:revision>183</cp:revision>
  <dc:subject/>
  <dc:title>PowerPoint-presentatie</dc:title>
</cp:coreProperties>
</file>