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408-CD01-495F-8074-B73ABCDB6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8700-08A0-49FD-A96B-1BAD1950A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5E19-AC5D-42BA-B0A3-C8F1883CF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CADD-66AA-404D-B232-E6FF251E1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E56E-D7BE-4E62-9AE7-B926238E5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8B0A-F588-40E4-99F7-5E1EFE9C8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3111-AF5D-4E9A-B912-53CE3A6E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7673-D6C2-4E7F-8F07-277BADC1D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AAFC-9CEA-4FCC-ACE3-4493512D5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B1EE-50ED-4B0F-B1D3-629B10420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BC7B-2B5A-4D5F-B0D4-2E1151C7F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0B1B-2554-4AC0-B0D9-68E5E14DC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C51F-92CD-40CD-9A8C-C01201304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B912-04BF-4B18-A487-C0D8F519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7D70-CC2F-4350-A87B-E01C2EF9D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F3E-7CF9-454F-A748-E0C569B8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25E-0601-4A53-A4FA-31BE064B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7A6-3718-44DE-B267-82836D7D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935-1C9E-40F8-85BB-06E4A773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020-B6E7-42C4-8C13-A6FF21EA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41B-DC3D-48DE-9C09-29E86A0F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47B-CA06-4CCF-B57E-4E88CFB7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E53-D83A-48E1-88F9-39B92D0B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921-CC35-4796-80EE-E8F951CD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8E7-D453-42DF-AA91-022F2E1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E06-B373-4BAB-8EBA-8C34AFF3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112-4546-4DA0-B657-F9A476D4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DD45-0DFD-42D9-B110-920A1B7EF1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17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SLO_OVlaanderen_Q"/>
          <p:cNvPicPr/>
          <p:nvPr/>
        </p:nvPicPr>
        <p:blipFill>
          <a:blip r:embed="rId1"/>
          <a:stretch/>
        </p:blipFill>
        <p:spPr>
          <a:xfrm>
            <a:off x="0" y="1844640"/>
            <a:ext cx="2440080" cy="3168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771640" y="1916280"/>
            <a:ext cx="6372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Ouderbetrokkenheid op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Schooljaar 2012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roederschool -Sint-Niklaa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8 november 2012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4. – De overtuiging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2920" y="1413000"/>
          <a:ext cx="6769080" cy="47768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ouder overtuigd dat hij een rol kan spelen in de schoolloopbaan van zij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denkt de ouder over zijn eigen r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enkt de ouder dat hij invloed kan uitoefenen op het welslagen en welbevinden van zijn kind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school/leerkracht overtuigd dat ze en rol te spelen heeft in het vormgeven van een krachtige samenwerking tussen ouder en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ziet de leerkracht zijn/haar rol in dit verhaa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school overtuigd dat ze een impact heeft op de relatie met d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indt de school dat het initiatief hiervoor van ouders zelf moet kom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competentie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172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42920" y="1413000"/>
          <a:ext cx="6769080" cy="47768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/is de ouder (zich) competent om een rol op te nemen in de schoolloopbaan van zij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ouder zich competent om een gesprek aan te gaan met de leerkrac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men zich in staat om de agenda en het huiswerk van zijn kind op te volg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leerkracht zich competent om te werken aan een krachtige samenwerking met ouders?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leerkracht zich competent om ouders te betrekken bij het schoolgebeu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leerkracht zich competent om met alle ouders te communic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gedrag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55480" y="1041120"/>
            <a:ext cx="777240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42920" y="1125360"/>
          <a:ext cx="6769080" cy="587880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8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539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zet de ouder zijn betrokkenheid om in concreet waarneembaar gedra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ndersteunt de ouder het kind bij het maken van schooltak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preekt de ouder met zijn kind over wat er op school gebeur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eemt de ouder deel aan oudercontacten, openklasmomenten, …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erleent de ouder hulp bij het organiseren van school- en klasactiviteit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aakt de ouder deel uit van het oudercomité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Wat doet de school/leerkracht concreet om ouders te betrekken bij de schoolloopbaan van hu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rt de school een communicatiebeleid dat haalbaar is voor all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Wordt tijd en ruimte gecreëerd voor informele contacten met ouders (schoolpoort, …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ganiseert de school oudercontacten, openklasmomenten en andere ouderbijeenkomsten die zijn afgestemd op de diverse groep ouders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tijd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7280" y="1413000"/>
          <a:ext cx="6624720" cy="4776840"/>
        </p:xfrm>
        <a:graphic>
          <a:graphicData uri="http://schemas.openxmlformats.org/drawingml/2006/table">
            <a:tbl>
              <a:tblPr/>
              <a:tblGrid>
                <a:gridCol w="324036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ouder aan bepaalde zak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Deze dimensie wordt samen met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e gedragsdimensie bekek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ouder aan zijn contacten met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ouder aan het ondersteunen van het kind thui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school/leerkrahct aan het werken aan een goede samenwerking met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Deze dimensie wordt samen met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e gedragsdimensie bekek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school/leerkracht aan zijn contacten met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dimensies toegepast op het oudercontact – een voorbeeld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4360" y="1989000"/>
            <a:ext cx="76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78920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nnisdimensie: Weet de ouder hoe zijn kind het doet op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en hoe het kind zich voelt? Weet de ouder wat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bedoeling is van het ouderconta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otionele dimensie: Voelt de ouder zich welkom? Voelt hij z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rij om te sprek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tuigingsdimensie: Is de ouder overtuigd van het belang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ijn aanwezighei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ionele dimensie: Op basis van bovenstaande zal de ou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kosten-baten maken. Is het de moe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m een oppas te zoeken, vroeger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jn werk weg te gaan, 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dimensies toegepast op het oudercontact – een voorbeeld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84360" y="1989000"/>
            <a:ext cx="76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etentiedimensie: Voelt de ouder zich competent om h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sprek aan te gaan met de leerkra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welbevinden, leerresultate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erkansen? (Gebruikt de leerka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egankelijke taal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drags- en tijdsdimensie: Hoe meer de school inspeelt op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mensies (in een geheel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iteiten), hoe vaker ou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rdaad naar het oudercont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ullen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360" y="242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flap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t valt je op als je de documenten bekijk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sitief en negatie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e zou je verder aan de slag kunnen met de positieve zak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b je ideeën om met de “negatieve” vaststellingen aan de slag te gaa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32929"/>
                </a:solidFill>
                <a:latin typeface="Arial"/>
              </a:rPr>
              <a:t>4. - Wat leren we van de toepassing op jouw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911734"/>
                </a:solidFill>
                <a:latin typeface="Arial"/>
              </a:rPr>
              <a:t>React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1734"/>
              </a:solidFill>
              <a:latin typeface="Arial"/>
            </a:endParaRPr>
          </a:p>
        </p:txBody>
      </p:sp>
      <p:pic>
        <p:nvPicPr>
          <p:cNvPr id="117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932929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0755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3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932929"/>
                </a:solidFill>
                <a:latin typeface="Arial"/>
              </a:rPr>
              <a:t>Wanneer vind jij een ouder betrokk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932929"/>
                </a:solidFill>
                <a:latin typeface="Arial"/>
              </a:rPr>
              <a:t>2.  Definitie ouderbetrokken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932929"/>
                </a:solidFill>
                <a:latin typeface="Arial"/>
              </a:rPr>
              <a:t>3.  De 7 dimensies van ouderbetrokken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2929"/>
                </a:solidFill>
                <a:latin typeface="Arial"/>
              </a:rPr>
              <a:t>4.  Wat leren we van de toepassing er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292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32929"/>
                </a:solidFill>
                <a:latin typeface="Arial"/>
              </a:rPr>
              <a:t>op de activiteiten op jouw schoo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1 – Wanneer vind jij een ouder betrok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6920" y="1557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  <a:ea typeface="Arial"/>
              </a:rPr>
              <a:t>Maak je persoonlijke top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  <a:ea typeface="Arial"/>
              </a:rPr>
              <a:t>We komen samen op flap tot een gemeenschappelijke top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2 – Definitie ouderbetrokken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6920" y="1557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derbetrokkenheid omvat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de relatie tussen het onderwijs van het kind en de ouders in de breedste zin van het woord. Dit kan zich uiten in daden binnen het gezin of in schoolverba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-    </a:t>
            </a:r>
            <a:r>
              <a:rPr b="0" lang="nl-B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cten van ouderbetrokkenhe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Contact en communicatie: wederzijdse communicatie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tussen school en ouders kan mondeling of schriftelijk plaatsvi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Ouderparticipatie: informele dienstverlening door ouders aan school (hulp bij activiteiten, …) en formele ouderparticipatie (ouderraad, oudercomité, 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Onderwijsondersteunend gedrag: de voorwaardenscheppende rol van ouders ten gunste van het leerproces en gedrag van het kind op school (voldoende rust, voeding,…) en ondersteuning van leeractiviteiten thuis (huiswerk, 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7 dimensies van ouderbetrokken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ontwikkeld door de vakgroep sociale agogiek van de universiteit van 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mee kan je oudermomenten op school bekijken, evalueren en bijs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mensionele bril zorgt voor betere oploss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7 dimensies van ouderbetrokkenheid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nni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motionele 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ionele 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vertuiging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etentie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drag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ijd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kenni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42920" y="1268280"/>
          <a:ext cx="6769080" cy="501336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59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ouder over onderwij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ouder over de school van zijn kind(eren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ouder over de klas van de kind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leert mij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e kan ik als ouder meer informatie verga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ar kan ik terecht bij problem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school/leerkracht over de ouders van hun leerlingen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n je als school kanalen om meer te weten te komen over d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2. – De emotionele dimens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1413000"/>
          <a:ext cx="6769080" cy="47768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voelt de ouder  zich ten opzichte van onderwij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ouder het gevoel dat de school open staat voor hem/haa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ouder zich welkom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ouder het gevoel dat men vriendelijk i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ouder het gevoel dat hij aanvaard wordt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Welke gevoelens heeft de leerkracht tegenover d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leerkracht het gevoel  dat ouders openstaan voor wat ze over het kind willen vertell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school/de leerkracht het gevoel dat de ouders hen waard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3. – De rationele 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1413000"/>
          <a:ext cx="6769080" cy="53276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90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Kosten-ba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n ouders het belang in van onderwij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n ouders het belang in van zelf te investeren in de schoolloopbaan van hu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jn ouders bereid om kosten te maken (zoals tijd, kinderopvang zoeken, verlof nemen, een busticket kopen, …) om hierin te invest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n ouders het belang in van contacten te hebben met de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Kosten-ba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t de leerkracht het belang in van een goede samenwerking met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school/leerkracht bereid om daarvoor kosten te maken, zoals extra tijd op school blijven, nascholing volgen, huisbezoeken doen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2:47:46Z</dcterms:created>
  <dc:creator>hewo</dc:creator>
  <dc:description/>
  <dc:language>en-US</dc:language>
  <cp:lastModifiedBy>Hilde Van Overmeire</cp:lastModifiedBy>
  <dcterms:modified xsi:type="dcterms:W3CDTF">2022-02-02T14:02:03Z</dcterms:modified>
  <cp:revision>187</cp:revision>
  <dc:subject/>
  <dc:title>PowerPoint-presentatie</dc:title>
</cp:coreProperties>
</file>